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7183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176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11320" cy="488880"/>
          </a:xfrm>
          <a:prstGeom prst="rect">
            <a:avLst/>
          </a:prstGeom>
          <a:noFill/>
          <a:ln w="0">
            <a:noFill/>
          </a:ln>
        </p:spPr>
        <p:txBody>
          <a:bodyPr lIns="90360" rIns="90360" tIns="45360" bIns="4536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06640" y="0"/>
            <a:ext cx="2911320" cy="488880"/>
          </a:xfrm>
          <a:prstGeom prst="rect">
            <a:avLst/>
          </a:prstGeom>
          <a:noFill/>
          <a:ln w="0">
            <a:noFill/>
          </a:ln>
        </p:spPr>
        <p:txBody>
          <a:bodyPr lIns="90360" rIns="90360" tIns="45360" bIns="4536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7640" y="731520"/>
            <a:ext cx="4883040" cy="3662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ck to move the slide</a:t>
            </a:r>
            <a:endParaRPr b="0" lang="en-US" sz="3200" spc="-1" strike="noStrike">
              <a:solidFill>
                <a:srgbClr val="ff00ff"/>
              </a:solidFill>
              <a:latin typeface="Arial"/>
            </a:endParaRPr>
          </a:p>
        </p:txBody>
      </p:sp>
      <p:sp>
        <p:nvSpPr>
          <p:cNvPr id="45" name="PlaceHolder 4"/>
          <p:cNvSpPr>
            <a:spLocks noGrp="1"/>
          </p:cNvSpPr>
          <p:nvPr>
            <p:ph type="body"/>
          </p:nvPr>
        </p:nvSpPr>
        <p:spPr>
          <a:xfrm>
            <a:off x="895320" y="4640400"/>
            <a:ext cx="4927680" cy="43941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76840"/>
            <a:ext cx="2911320" cy="489240"/>
          </a:xfrm>
          <a:prstGeom prst="rect">
            <a:avLst/>
          </a:prstGeom>
          <a:noFill/>
          <a:ln w="0">
            <a:noFill/>
          </a:ln>
        </p:spPr>
        <p:txBody>
          <a:bodyPr lIns="90360" rIns="90360" tIns="45360" bIns="4536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06640" y="9276840"/>
            <a:ext cx="2911320" cy="489240"/>
          </a:xfrm>
          <a:prstGeom prst="rect">
            <a:avLst/>
          </a:prstGeom>
          <a:noFill/>
          <a:ln w="0">
            <a:noFill/>
          </a:ln>
        </p:spPr>
        <p:txBody>
          <a:bodyPr lIns="90360" rIns="90360" tIns="45360" bIns="4536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8A2A3F-7EF7-45A7-AB57-DD0224A6E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917640" y="731880"/>
            <a:ext cx="4883040" cy="3662280"/>
          </a:xfrm>
          <a:prstGeom prst="rect">
            <a:avLst/>
          </a:prstGeom>
          <a:ln w="0">
            <a:noFill/>
          </a:ln>
        </p:spPr>
      </p:sp>
      <p:sp>
        <p:nvSpPr>
          <p:cNvPr id="61" name="PlaceHolder 2"/>
          <p:cNvSpPr>
            <a:spLocks noGrp="1"/>
          </p:cNvSpPr>
          <p:nvPr>
            <p:ph type="body"/>
          </p:nvPr>
        </p:nvSpPr>
        <p:spPr>
          <a:xfrm>
            <a:off x="895320" y="4640400"/>
            <a:ext cx="4927680" cy="43941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549BB-9796-437E-968F-AD352CD35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3047-B808-45A6-8453-80ED83B90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EC694-4DCC-48C1-8615-535721F6E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FAE2C-2102-4750-A03D-B1AA8D41A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CF010-07BF-4ADF-B398-4445DD27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97BE7-5067-4311-8530-BC3ED808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6E65-7C4F-4146-94CD-A0B700F6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A4E1A-A972-492E-B115-80DBFF027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12948-5875-4159-8620-F9AD23AE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6D70-5C8B-447A-A51C-FD1C4B37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89F0-B895-4364-B270-D10898B0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5955-7D04-484C-8110-DAD65D913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ck to edit the title text format</a:t>
            </a:r>
            <a:endParaRPr b="0" lang="en-US" sz="3200" spc="-1" strike="noStrike">
              <a:solidFill>
                <a:srgbClr val="ff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C988-3879-474B-88CA-7058FB744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Mathematikunterricht:</a:t>
            </a:r>
            <a:br>
              <a:rPr sz="3200"/>
            </a:br>
            <a:r>
              <a:rPr b="0" lang="en-US" sz="3200" spc="-1" strike="noStrike">
                <a:solidFill>
                  <a:srgbClr val="ff00ff"/>
                </a:solidFill>
                <a:latin typeface="Arial"/>
              </a:rPr>
              <a:t>Zukunftsgedanken</a:t>
            </a:r>
            <a:endParaRPr b="0" lang="en-US" sz="3200" spc="-1" strike="noStrike">
              <a:solidFill>
                <a:srgbClr val="ff00ff"/>
              </a:solidFill>
              <a:latin typeface="Arial"/>
            </a:endParaRPr>
          </a:p>
        </p:txBody>
      </p:sp>
      <p:sp>
        <p:nvSpPr>
          <p:cNvPr id="49" name="PlaceHolder 2"/>
          <p:cNvSpPr>
            <a:spLocks noGrp="1"/>
          </p:cNvSpPr>
          <p:nvPr>
            <p:ph type="subTitle"/>
          </p:nvPr>
        </p:nvSpPr>
        <p:spPr>
          <a:xfrm>
            <a:off x="1371600" y="3885840"/>
            <a:ext cx="6400800" cy="1219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no Buchberg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Institute for Symbolic Computatio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annes Kepler Universität Linz</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hop für AHS-Lehrer, 13. Dezember 1999</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Ziele des Workshops</a:t>
            </a:r>
            <a:endParaRPr b="0" lang="en-US" sz="3200" spc="-1" strike="noStrike">
              <a:solidFill>
                <a:srgbClr val="ff00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 grundlegenden Zusammenhang zwischen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Logik, Informatik,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wissenschaften, Technik,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tschaft, Gesellschaft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meinsam überdenken.</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 heutigen Stand der Computerisierbarkeit der Mathematik durch Beispiele charakterisieren und mit den modernsten mathematischen Software-Systemen umgehen lernen.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der gewonnenen Gesamtsicht selbst entscheiden können, in welcher Weise der Mathematikunterricht unter Einbeziehung des Computers gestaltet werden kann / sol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ufbau des Workshops</a:t>
            </a:r>
            <a:endParaRPr b="0" lang="en-US" sz="3200" spc="-1" strike="noStrike">
              <a:solidFill>
                <a:srgbClr val="ff00ff"/>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5 - 10:15, Hörsaal 3:</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hematik: Eine Zusammenschau.</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0 - 13:00, Labor 4: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Übungen in computer-unterstützter Mathematik mit </a:t>
            </a:r>
            <a:r>
              <a:rPr b="0" i="1" lang="en-US" sz="1800" spc="-1" strike="noStrike">
                <a:solidFill>
                  <a:srgbClr val="000000"/>
                </a:solidFill>
                <a:latin typeface="Arial"/>
              </a:rPr>
              <a:t>Mathematica</a:t>
            </a:r>
            <a:r>
              <a:rPr b="0" lang="en-US" sz="1800" spc="-1" strike="noStrike">
                <a:solidFill>
                  <a:srgbClr val="000000"/>
                </a:solidFill>
                <a:latin typeface="Arial"/>
              </a:rPr>
              <a:t> und </a:t>
            </a:r>
            <a:r>
              <a:rPr b="0" i="1" lang="en-US" sz="1800" spc="-1" strike="noStrike">
                <a:solidFill>
                  <a:srgbClr val="000000"/>
                </a:solidFill>
                <a:latin typeface="Arial"/>
              </a:rPr>
              <a:t>Theorema</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0 - 16:00, Hörsaal 2: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usammenfassung und Diskuss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5"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 im Zusammenha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Vortrag als Powerpoint File kann wie folgt geladen werden: Lade das Fi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uchberger-1999-Talk-Mathematik-im-Zusammenhang.pp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m selben Archiv. Falls Powerpoint nicht zur Verfügung steht, lade das .ps File mit demselben Namen im selben Archiv. Dieses kann mit jedem Postscript-Leser gelesen werde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7"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Übungen in computer-unterstützter Mathematik mit </a:t>
            </a:r>
            <a:r>
              <a:rPr b="0" i="1" lang="en-US" sz="1800" spc="-1" strike="noStrike">
                <a:solidFill>
                  <a:srgbClr val="3333cc"/>
                </a:solidFill>
                <a:latin typeface="Arial"/>
              </a:rPr>
              <a:t>Mathematica</a:t>
            </a:r>
            <a:r>
              <a:rPr b="0" lang="en-US" sz="1800" spc="-1" strike="noStrike">
                <a:solidFill>
                  <a:srgbClr val="3333cc"/>
                </a:solidFill>
                <a:latin typeface="Arial"/>
              </a:rPr>
              <a:t> und </a:t>
            </a:r>
            <a:r>
              <a:rPr b="0" i="1" lang="en-US" sz="1800" spc="-1" strike="noStrike">
                <a:solidFill>
                  <a:srgbClr val="3333cc"/>
                </a:solidFill>
                <a:latin typeface="Arial"/>
              </a:rPr>
              <a:t>Theorema</a:t>
            </a:r>
            <a:r>
              <a:rPr b="0" lang="en-US" sz="1800" spc="-1" strike="noStrike">
                <a:solidFill>
                  <a:srgbClr val="3333cc"/>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Einführung in die Benutzung von mathematischen Software-Systemen findet sich im selben Archiv unter dem Nam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uchberger-1999-Talk-Math-SW-Einführung.nb</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b file and the .nb files referenced in this file can be read if you have Mathematica 3.0 or 4.0 installed on your computer. If you do not have Mathematica 3.0 or 4.0 installed, you can read the corresponding .ps files with any postscript reader. If you are a Theorema alpha tester, you can also execute the examples in this .nb file. At present, we do not accept any more applications for alpha testing. The beta version will be announced in fall 2000. If you are interested to be informed about the beta release, please, write to Theorema@Theorema.org </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9"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89000"/>
          </a:bodyPr>
          <a:p>
            <a:pPr marL="305280" indent="-3052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Übungen in computer-unterstützter Mathematik mit </a:t>
            </a:r>
            <a:r>
              <a:rPr b="0" i="1" lang="en-US" sz="1800" spc="-1" strike="noStrike">
                <a:solidFill>
                  <a:srgbClr val="3333cc"/>
                </a:solidFill>
                <a:latin typeface="Arial"/>
              </a:rPr>
              <a:t>Mathematica</a:t>
            </a:r>
            <a:r>
              <a:rPr b="0" lang="en-US" sz="1800" spc="-1" strike="noStrike">
                <a:solidFill>
                  <a:srgbClr val="3333cc"/>
                </a:solidFill>
                <a:latin typeface="Arial"/>
              </a:rPr>
              <a:t> und </a:t>
            </a:r>
            <a:r>
              <a:rPr b="0" i="1" lang="en-US" sz="1800" spc="-1" strike="noStrike">
                <a:solidFill>
                  <a:srgbClr val="3333cc"/>
                </a:solidFill>
                <a:latin typeface="Arial"/>
              </a:rPr>
              <a:t>Theorema</a:t>
            </a:r>
            <a:r>
              <a:rPr b="0" lang="en-US" sz="1800" spc="-1" strike="noStrike">
                <a:solidFill>
                  <a:srgbClr val="3333cc"/>
                </a:solidFill>
                <a:latin typeface="Arial"/>
              </a:rPr>
              <a:t>.</a:t>
            </a:r>
            <a:endParaRPr b="0" lang="en-US" sz="1800" spc="-1" strike="noStrike">
              <a:solidFill>
                <a:srgbClr val="000000"/>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Demo von Theorema, die bei der Schulung verwendet wurde, kann wie folgt geladen werden: Unzip das Archiv</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uchberger-Paper-1999-Theorema-Demo.zip </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lade das .nb File mit demselben Namen und die .nb Files, auf welche in diesem File Bezug genommen wird.</a:t>
            </a:r>
            <a:endParaRPr b="0" lang="en-US" sz="18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b file and the .nb files referenced in this file can be read if you have Mathematica 3.0 or 4.0 installed on your computer. If you do not have Mathematica 3.0 or 4.0 installed, you can read the corresponding .ps files with any postscript reader. If you are a Theorema alpha tester, you can also execute the examples in this .nb file. At present, we do not accept any more applications for alpha testing. The beta version will be announced in fall 2000. If you are interested to be informed about the beta release, please, write to Theorema@Theorema.org </a:t>
            </a:r>
            <a:endParaRPr b="0" lang="en-US" sz="1200" spc="-1" strike="noStrike">
              <a:solidFill>
                <a:srgbClr val="000000"/>
              </a:solidFill>
              <a:latin typeface="Arial"/>
            </a:endParaRPr>
          </a:p>
          <a:p>
            <a:pPr marL="305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8T03:23:52Z</dcterms:created>
  <dc:creator>Bruno Buchberger</dc:creator>
  <dc:description/>
  <dc:language>en-US</dc:language>
  <cp:lastModifiedBy>Bruno Buchberger</cp:lastModifiedBy>
  <cp:lastPrinted>1999-12-07T07:55:20Z</cp:lastPrinted>
  <dcterms:modified xsi:type="dcterms:W3CDTF">2000-01-23T09:59:30Z</dcterms:modified>
  <cp:revision>114</cp:revision>
  <dc:subject/>
  <dc:title>Zukunftsgedanken für Tirol</dc:title>
</cp:coreProperties>
</file>